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385-E659-4DD3-9E1D-7A0C7184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F72D-0518-414D-8650-A75B9579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9D3-129A-4E28-A630-75D74ABF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2C1-EA31-4601-85BD-7C69CFDB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746-6441-4958-8834-50ECE85C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6DB-01C9-4C0D-9F3E-94EC6FA8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CE7-AF3D-43D2-BE85-EE52276A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55D-A482-4739-94B0-00108EBE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0DC-34BB-43D9-8F40-E2443B52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3AF-F799-4E5F-A0F1-58EBC64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D47-62FC-4A2C-890C-D7754C98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AE4-FDB7-4202-8CAD-3B0B1D30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2D8-D3D4-4A66-9CBF-2641CF8F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E5C-A1A7-4BDF-B6A6-F69DF37B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EB5A-6137-4698-AC1C-625CB6E77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842080" y="4775040"/>
            <a:ext cx="3301920" cy="208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anklin Gothic Heavy"/>
              </a:rPr>
              <a:t>Educational Technology</a:t>
            </a: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Enhancing education through techn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htfju"/>
          <p:cNvPicPr/>
          <p:nvPr/>
        </p:nvPicPr>
        <p:blipFill>
          <a:blip r:embed="rId2"/>
          <a:stretch/>
        </p:blipFill>
        <p:spPr>
          <a:xfrm>
            <a:off x="4267080" y="5410080"/>
            <a:ext cx="2934000" cy="8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j"/>
          <p:cNvPicPr/>
          <p:nvPr/>
        </p:nvPicPr>
        <p:blipFill>
          <a:blip r:embed="rId3"/>
          <a:stretch/>
        </p:blipFill>
        <p:spPr>
          <a:xfrm>
            <a:off x="7467480" y="556272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Roles of Educational Technology in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eaching – Learn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livery vehicle for instructional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arner learns from the technology and the technology serves as a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chnology is seen as a productivity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. Partners in the learning process (constructiv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- technology is a tool to learn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not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kes the learner gather, think, analyze, synthesize information and construct meaning with what technology pres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ology serves as a medium in representing what the learner knows and what he/she is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s of Ed tech in the teaching-learning proces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Roles of Ed tech in the teaching-learning proces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. Educational Technology helps improve the teaching learning process throu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increasing the degree of learning or mast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4.  Learning is interactive thus learners are encourage to particip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s of technology in learning from the constructivist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s tools to support knowledg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s information vehicles for exploring knowledge to support learning-by-constru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s context to support learning by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 a social medium to support learning by conve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 intellectual partner to support learning-by-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What is Educational Technology all about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994360" y="4775040"/>
            <a:ext cx="3301920" cy="208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fju"/>
          <p:cNvPicPr/>
          <p:nvPr/>
        </p:nvPicPr>
        <p:blipFill>
          <a:blip r:embed="rId2"/>
          <a:stretch/>
        </p:blipFill>
        <p:spPr>
          <a:xfrm>
            <a:off x="4419720" y="5410080"/>
            <a:ext cx="2933640" cy="8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jj"/>
          <p:cNvPicPr/>
          <p:nvPr/>
        </p:nvPicPr>
        <p:blipFill>
          <a:blip r:embed="rId3"/>
          <a:stretch/>
        </p:blipFill>
        <p:spPr>
          <a:xfrm>
            <a:off x="7670880" y="5537160"/>
            <a:ext cx="7617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Technology – is  a holistic  application of learning theories to enhance communication through the use of instructional tools to impact learning and its assessment to develop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technology in supporting learning proc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refers to how people utilize their inventions and discoveries to satisfy their needs and desires such as in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842080" y="4775040"/>
            <a:ext cx="3301920" cy="208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fju"/>
          <p:cNvPicPr/>
          <p:nvPr/>
        </p:nvPicPr>
        <p:blipFill>
          <a:blip r:embed="rId2"/>
          <a:stretch/>
        </p:blipFill>
        <p:spPr>
          <a:xfrm>
            <a:off x="4267080" y="5410080"/>
            <a:ext cx="2934000" cy="800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erely concerned with technology as It impacts upon the learning process such a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ing learn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ing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ssessment and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jj"/>
          <p:cNvPicPr/>
          <p:nvPr/>
        </p:nvPicPr>
        <p:blipFill>
          <a:blip r:embed="rId3"/>
          <a:stretch/>
        </p:blipFill>
        <p:spPr>
          <a:xfrm>
            <a:off x="7518240" y="553716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application of scientific findings in our method, process or procedure or working in the field of education in order to affect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a field study and prof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mbraces curriculum and instructional design, learning environment and theories of teaching-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use of all human inventions for teachers to realize their mission to teach in order that students lea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hases of 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29718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114800" y="1295280"/>
            <a:ext cx="22096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6324480" y="2057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289548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6248160" y="3886200"/>
            <a:ext cx="9903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733920" y="5029200"/>
            <a:ext cx="2438280" cy="138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 flipH="1" flipV="1">
            <a:off x="2286000" y="40384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523880" y="3495600"/>
            <a:ext cx="2438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39625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429000" y="40384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3429000" y="236196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2"/>
          <p:cNvSpPr/>
          <p:nvPr/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echnology in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28600" y="10666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application  of technology to any of those processes involved in operating the institutions which house the educational enterpris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04920" y="27432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t includes the application of technology to food, health, finance, scheduling, grade, reporting, and other processes which support education within instit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04920" y="47008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he audio visual aids, software and hardware as learning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2:22:55Z</dcterms:created>
  <dc:creator>WL18</dc:creator>
  <dc:description/>
  <dc:language>en-US</dc:language>
  <cp:lastModifiedBy>msu-iit</cp:lastModifiedBy>
  <dcterms:modified xsi:type="dcterms:W3CDTF">2011-06-28T03:20:36Z</dcterms:modified>
  <cp:revision>15</cp:revision>
  <dc:subject/>
  <dc:title>Educational Technology</dc:title>
</cp:coreProperties>
</file>